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B68413E-0F7B-42EC-9777-CDC9B68F6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E7CA3C-9165-4769-BA1B-80318DB5E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DA42FEE-A1F4-427D-9246-69BB517F2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0CC9E8D-949C-47EE-8BE2-463ABBA15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9048C-BD8B-4E4A-A201-5549CA989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F31AF-4E71-4220-BC22-0E5851A0A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1918A9-6A77-4EDB-80B2-DBF642BD1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D02A8-5A31-4095-BC93-EA7D67DDEC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07532-10F7-4320-8A37-A3B7B8CDA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F74336-0B96-44CD-9810-911B005B5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75328-D44C-4DF2-886F-6223B5F36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1E89049-7396-48D2-B876-B1FD3C80D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9BFDF-F23B-4DCF-B58B-DCA9856DA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BDFBD-BE21-439B-A469-641E42865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B85CE-89C4-4A8C-8645-4FE5D4DF5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F9AEC-2424-4893-BF30-985250565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5C7F4B-CD34-4677-AB4F-00DB58DE4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367979B-A526-4D1B-AC84-7494BBCA4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F24A07E-2ED4-4D61-A3FD-A6232959F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B773C2-D692-45EA-ACDC-F8A419003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0FFADB2-498A-4243-A06D-3E3B61A4D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825708-085A-42BB-920D-F6B2D9928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3D309A-2360-4DCE-A910-72224BCCE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544ECE-908C-496B-8233-E1D760833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6F65-DBE4-4A44-B7F1-EEBD09E0D41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AB32-DB22-448F-AF13-27A95F6EE6AC}"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cc00"/>
                </a:solidFill>
                <a:uFillTx/>
                <a:latin typeface="Garamond"/>
                <a:hlinkClick r:id="rId1" action="ppaction://hlinksldjump"/>
              </a:rPr>
              <a:t>Chapter Nineteen </a:t>
            </a:r>
            <a:br>
              <a:rPr sz="3600"/>
            </a:br>
            <a:r>
              <a:rPr b="0" lang="en-US" sz="3600" spc="-1" strike="noStrike">
                <a:solidFill>
                  <a:srgbClr val="e5e5ff"/>
                </a:solidFill>
                <a:latin typeface="Garamond"/>
              </a:rPr>
              <a:t>Negligence in Schools </a:t>
            </a:r>
            <a:br>
              <a:rPr sz="3600"/>
            </a:br>
            <a:endParaRPr b="1" lang="en-US" sz="3600" spc="-1" strike="noStrike">
              <a:solidFill>
                <a:srgbClr val="e5e5ff"/>
              </a:solidFill>
              <a:latin typeface="Garamond"/>
            </a:endParaRPr>
          </a:p>
        </p:txBody>
      </p:sp>
      <p:sp>
        <p:nvSpPr>
          <p:cNvPr id="101" name="PlaceHolder 2"/>
          <p:cNvSpPr>
            <a:spLocks noGrp="1"/>
          </p:cNvSpPr>
          <p:nvPr>
            <p:ph/>
          </p:nvPr>
        </p:nvSpPr>
        <p:spPr>
          <a:xfrm>
            <a:off x="380520" y="1600200"/>
            <a:ext cx="4038840" cy="4525920"/>
          </a:xfrm>
          <a:prstGeom prst="rect">
            <a:avLst/>
          </a:prstGeom>
          <a:noFill/>
          <a:ln w="0">
            <a:noFill/>
          </a:ln>
        </p:spPr>
        <p:txBody>
          <a:bodyPr anchor="t">
            <a:normAutofit fontScale="98000"/>
          </a:bodyPr>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Garamond"/>
                <a:hlinkClick r:id="rId2" action="ppaction://hlinksldjump"/>
              </a:rPr>
              <a:t>Definition of Negligenc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gal Duty of Car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Breach of the Duty of Car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ctual Damag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usal Proximity </a:t>
            </a:r>
            <a:endParaRPr b="0" lang="en-US" sz="1400" spc="-1" strike="noStrike">
              <a:solidFill>
                <a:srgbClr val="ffffff"/>
              </a:solidFill>
              <a:latin typeface="Garamond"/>
            </a:endParaRPr>
          </a:p>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urces of Liability in School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ccupiers' Liability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upervisory Obligation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tatutory Obligations </a:t>
            </a:r>
            <a:endParaRPr b="0" lang="en-US" sz="1400" spc="-1" strike="noStrike">
              <a:solidFill>
                <a:srgbClr val="ffffff"/>
              </a:solidFill>
              <a:latin typeface="Garamond"/>
            </a:endParaRPr>
          </a:p>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ome Negligence Principle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tributory Negligenc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arious Liability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oluntary Assumption of Risk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in-Skulled Plaintiff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mon Practice </a:t>
            </a:r>
            <a:endParaRPr b="0" lang="en-US" sz="1400" spc="-1" strike="noStrike">
              <a:solidFill>
                <a:srgbClr val="ffffff"/>
              </a:solidFill>
              <a:latin typeface="Garamond"/>
            </a:endParaRPr>
          </a:p>
          <a:p>
            <a:pPr marL="335880" indent="-3358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Determining Negligence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egligence of Student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terns and Substitute Teacher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olunteers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utside School Property </a:t>
            </a:r>
            <a:endParaRPr b="0" lang="en-US" sz="1400" spc="-1" strike="noStrike">
              <a:solidFill>
                <a:srgbClr val="ffffff"/>
              </a:solidFill>
              <a:latin typeface="Garamond"/>
            </a:endParaRPr>
          </a:p>
          <a:p>
            <a:pPr lvl="1" marL="727920" indent="-28008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utside School Hours </a:t>
            </a:r>
            <a:endParaRPr b="0" lang="en-US" sz="1400" spc="-1" strike="noStrike">
              <a:solidFill>
                <a:srgbClr val="ffffff"/>
              </a:solidFill>
              <a:latin typeface="Garamond"/>
            </a:endParaRPr>
          </a:p>
          <a:p>
            <a:pPr lvl="1" marL="72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anchor="t">
            <a:normAutofit fontScale="99000"/>
          </a:bodyPr>
          <a:p>
            <a:pPr lvl="1" marL="735480" indent="-282960">
              <a:lnSpc>
                <a:spcPct val="80000"/>
              </a:lnSpc>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hool Physical Plant </a:t>
            </a:r>
            <a:endParaRPr b="0" lang="en-US" sz="12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chool Construction Site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Gymnastic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andicapped Student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mpaired Invitee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gnoring Injuries </a:t>
            </a:r>
            <a:endParaRPr b="0" lang="en-US" sz="1400" spc="-1" strike="noStrike">
              <a:solidFill>
                <a:srgbClr val="ffffff"/>
              </a:solidFill>
              <a:latin typeface="Garamond"/>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mitations on Liability </a:t>
            </a:r>
            <a:endParaRPr b="0" lang="en-US" sz="14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xemplary Case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lumb Case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ropp Case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iggins Case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imard Case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ad Pizza Case </a:t>
            </a:r>
            <a:endParaRPr b="0" lang="en-US" sz="14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Judicial Decisions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lumb Decision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ropp Decision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Wiggins Decision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imard Decision </a:t>
            </a:r>
            <a:endParaRPr b="0" lang="en-US" sz="1400" spc="-1" strike="noStrike">
              <a:solidFill>
                <a:srgbClr val="ffffff"/>
              </a:solidFill>
              <a:latin typeface="Garamond"/>
            </a:endParaRPr>
          </a:p>
          <a:p>
            <a:pPr lvl="1" marL="735480" indent="-28296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oad Pizza Decision </a:t>
            </a:r>
            <a:endParaRPr b="0" lang="en-US" sz="1400" spc="-1" strike="noStrike">
              <a:solidFill>
                <a:srgbClr val="ffffff"/>
              </a:solidFill>
              <a:latin typeface="Garamond"/>
            </a:endParaRPr>
          </a:p>
          <a:p>
            <a:pPr marL="339480" indent="-3394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clusions </a:t>
            </a:r>
            <a:endParaRPr b="0" lang="en-US" sz="1400" spc="-1" strike="noStrike">
              <a:solidFill>
                <a:srgbClr val="ffffff"/>
              </a:solidFill>
              <a:latin typeface="Garamond"/>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upervisory Obligations </a:t>
            </a:r>
            <a:br>
              <a:rPr sz="3200"/>
            </a:br>
            <a:endParaRPr b="1" lang="en-US" sz="3200" spc="-1" strike="noStrike">
              <a:solidFill>
                <a:srgbClr val="e5e5ff"/>
              </a:solidFill>
              <a:latin typeface="Garamond"/>
            </a:endParaRPr>
          </a:p>
        </p:txBody>
      </p:sp>
      <p:sp>
        <p:nvSpPr>
          <p:cNvPr id="119" name="PlaceHolder 2"/>
          <p:cNvSpPr>
            <a:spLocks noGrp="1"/>
          </p:cNvSpPr>
          <p:nvPr>
            <p:ph/>
          </p:nvPr>
        </p:nvSpPr>
        <p:spPr>
          <a:xfrm>
            <a:off x="457200" y="990360"/>
            <a:ext cx="8229600" cy="513540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must provide pupils with a level of supervision that will prevent foreseeable accidents from happening.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egal principle “in loco parentis”, (meaning in place of the parent) gives the teacher responsibility similar to that of a careful and prudent parent.  Teaching is the only profession for which the required standard of care to clients is an extrapolation of parental behaviour.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rts have required teachers to have specialized knowledge of safety principles in their own subject areas ( e.g. physical education and  subjects with shop or laboratory components).  </a:t>
            </a:r>
            <a:endParaRPr b="0" lang="en-US" sz="24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Four Supervisory Principles</a:t>
            </a:r>
            <a:endParaRPr b="1" lang="en-US" sz="2800" spc="-1" strike="noStrike">
              <a:solidFill>
                <a:srgbClr val="e5e5ff"/>
              </a:solidFill>
              <a:latin typeface="Garamond"/>
            </a:endParaRPr>
          </a:p>
        </p:txBody>
      </p:sp>
      <p:sp>
        <p:nvSpPr>
          <p:cNvPr id="121" name="PlaceHolder 2"/>
          <p:cNvSpPr>
            <a:spLocks noGrp="1"/>
          </p:cNvSpPr>
          <p:nvPr>
            <p:ph/>
          </p:nvPr>
        </p:nvSpPr>
        <p:spPr>
          <a:xfrm>
            <a:off x="457200" y="1219320"/>
            <a:ext cx="8229600" cy="490680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four supervisory principles, . . . Are representative of good practice in all provinces (Leduc, 460).  </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udents must be informed of the dangers inherent in the activity and must be instructed in safe practices before becoming involved in the activity.  </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eacher must be present during the activity and must be observing it with a view to avoiding accidents.  </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location and the equipment must be suitable for the activity and must be safe.  </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ental consent must be obtained for activities undertaken outside the regular school program.  </a:t>
            </a:r>
            <a:endParaRPr b="0" lang="en-US" sz="2800" spc="-1" strike="noStrike">
              <a:solidFill>
                <a:srgbClr val="ffffff"/>
              </a:solidFill>
              <a:latin typeface="Garamond"/>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ributory Negligence</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n responsibility is apportioned on a percentage basis to all parties whose behaviour was negligent, including the victim.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very young child cannot be guilty of contributory negligence.  An older child may be; but it depends on the circumstances (Lord Denning)</a:t>
            </a:r>
            <a:endParaRPr b="0" lang="en-US" sz="32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Vicarious Liability</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25" name="PlaceHolder 2"/>
          <p:cNvSpPr>
            <a:spLocks noGrp="1"/>
          </p:cNvSpPr>
          <p:nvPr>
            <p:ph/>
          </p:nvPr>
        </p:nvSpPr>
        <p:spPr>
          <a:xfrm>
            <a:off x="457200" y="1142640"/>
            <a:ext cx="8229600" cy="5181480"/>
          </a:xfrm>
          <a:prstGeom prst="rect">
            <a:avLst/>
          </a:prstGeom>
          <a:noFill/>
          <a:ln w="0">
            <a:noFill/>
          </a:ln>
        </p:spPr>
        <p:txBody>
          <a:bodyPr anchor="t">
            <a:normAutofit fontScale="97000"/>
          </a:bodyPr>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en one person is held legally responsible for the negligence of another even though the former is not personally negligent.  </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ployers are responsible for the torts of their employees committed in the course of their employment.  </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icarious liability increases the probability that victims can recover damages, since the employer normally has more financial resources than the employee.  </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mployers are encouraged, on the one hand, to promote safety in their enterprises and, on the other hand, to purchase liability insurance.  </a:t>
            </a:r>
            <a:endParaRPr b="0" lang="en-US" sz="2400" spc="-1" strike="noStrike">
              <a:solidFill>
                <a:srgbClr val="ffffff"/>
              </a:solidFill>
              <a:latin typeface="Garamond"/>
            </a:endParaRPr>
          </a:p>
          <a:p>
            <a:pPr marL="332640" indent="-3326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boards in most, but not all, provinces purchase such insurance.  </a:t>
            </a:r>
            <a:endParaRPr b="0" lang="en-US" sz="24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Voluntary Assumption of Risk </a:t>
            </a:r>
            <a:br>
              <a:rPr sz="3200"/>
            </a:br>
            <a:endParaRPr b="1" lang="en-US" sz="3200" spc="-1" strike="noStrike">
              <a:solidFill>
                <a:srgbClr val="e5e5ff"/>
              </a:solidFill>
              <a:latin typeface="Garamond"/>
            </a:endParaRPr>
          </a:p>
        </p:txBody>
      </p:sp>
      <p:sp>
        <p:nvSpPr>
          <p:cNvPr id="127" name="PlaceHolder 2"/>
          <p:cNvSpPr>
            <a:spLocks noGrp="1"/>
          </p:cNvSpPr>
          <p:nvPr>
            <p:ph/>
          </p:nvPr>
        </p:nvSpPr>
        <p:spPr>
          <a:xfrm>
            <a:off x="457200" y="1066680"/>
            <a:ext cx="8229600" cy="5059440"/>
          </a:xfrm>
          <a:prstGeom prst="rect">
            <a:avLst/>
          </a:prstGeom>
          <a:noFill/>
          <a:ln w="0">
            <a:noFill/>
          </a:ln>
        </p:spPr>
        <p:txBody>
          <a:bodyPr anchor="t">
            <a:normAutofit fontScale="87000"/>
          </a:bodyPr>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oluntary assumption of risk is a complete defence against a negligence action,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victim understood that the activity was risky but willingly chose to participate.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defence can be successful when the victim is an adult who has been fully informed of the risks and has. . .accepted them.  </a:t>
            </a:r>
            <a:endParaRPr b="0" lang="en-US" sz="3200" spc="-1" strike="noStrike">
              <a:solidFill>
                <a:srgbClr val="ffffff"/>
              </a:solidFill>
              <a:latin typeface="Garamond"/>
            </a:endParaRPr>
          </a:p>
          <a:p>
            <a:pPr marL="298440" indent="-2984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voluntary assumption of risk almost never succeeds as a defence against a charge of negligence in cases involving child victims.</a:t>
            </a:r>
            <a:endParaRPr b="0" lang="en-US" sz="32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mmon Practice </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219320"/>
            <a:ext cx="8229600" cy="4906800"/>
          </a:xfrm>
          <a:prstGeom prst="rect">
            <a:avLst/>
          </a:prstGeom>
          <a:noFill/>
          <a:ln w="0">
            <a:noFill/>
          </a:ln>
        </p:spPr>
        <p:txBody>
          <a:bodyPr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formity to common or general practice or to custom within a profession is usually a defence against negligence.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principle is being increasingly adopted in school cases but is most widely applied in medical malpractice suits.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ries consisting of lay persons listen to the evidence of expert witnesses as to whether the procedures used by the defendant are commonly accepted within the profession. </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Determining Negligence </a:t>
            </a:r>
            <a:br>
              <a:rPr sz="2000"/>
            </a:br>
            <a:r>
              <a:rPr b="0" lang="en-US" sz="2000" spc="-1" strike="noStrike">
                <a:solidFill>
                  <a:srgbClr val="e5e5ff"/>
                </a:solidFill>
                <a:latin typeface="Garamond"/>
              </a:rPr>
              <a:t> General principle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1"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egligence of Students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are in much the same position as parents in regards to the negligent acts of children whom they are required to supervise.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are not responsible unless they themselves have been negligent in discharging their supervisory responsibilities.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f a student is injured because of the actions of another student, the teacher can be held contributorily negligent if he or she did not provide adequate supervision.</a:t>
            </a:r>
            <a:endParaRPr b="0" lang="en-US" sz="24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Interns and Substitute Teacher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3" name="PlaceHolder 2"/>
          <p:cNvSpPr>
            <a:spLocks noGrp="1"/>
          </p:cNvSpPr>
          <p:nvPr>
            <p:ph/>
          </p:nvPr>
        </p:nvSpPr>
        <p:spPr>
          <a:xfrm>
            <a:off x="457200" y="1143000"/>
            <a:ext cx="8229600" cy="54864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beginning teacher or a substitute who has no competence in the subject matter can usually prevent accidents as adequately as an experienced teacher </a:t>
            </a:r>
            <a:endParaRPr b="0" lang="en-US" sz="24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gligence law makes few concessions to beginners and even fewer to those who attempt an activity for which they are not qualified.  </a:t>
            </a:r>
            <a:endParaRPr b="0" lang="en-US" sz="2400" spc="-1" strike="noStrike">
              <a:solidFill>
                <a:srgbClr val="ffffff"/>
              </a:solidFill>
              <a:latin typeface="Garamond"/>
            </a:endParaRPr>
          </a:p>
          <a:p>
            <a:pPr marL="339480" indent="-3394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n unqualified teacher has a strong obligation to avoid any risky activity (in for example, laboratories, shops, and many physical education activities) regardless of what the regular teacher's lesson plan calls for.  </a:t>
            </a:r>
            <a:endParaRPr b="0" lang="en-US" sz="24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g. a substitute teacher who cannot swim can have the children read about artificial respiration.  </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planned practice on the use of power tools can become a classroom lecture on safety with such tools.  </a:t>
            </a:r>
            <a:endParaRPr b="0" lang="en-US" sz="2000" spc="-1" strike="noStrike">
              <a:solidFill>
                <a:srgbClr val="ffffff"/>
              </a:solidFill>
              <a:latin typeface="Garamond"/>
            </a:endParaRPr>
          </a:p>
          <a:p>
            <a:pPr lvl="1" marL="735480" indent="-282960">
              <a:lnSpc>
                <a:spcPct val="8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aboratory experiments should not be attempted in classes where the teacher is not qualified to supervise them.  </a:t>
            </a:r>
            <a:endParaRPr b="0" lang="en-US" sz="20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Volunteers </a:t>
            </a:r>
            <a:br>
              <a:rPr sz="3200"/>
            </a:br>
            <a:endParaRPr b="1" lang="en-US" sz="3200" spc="-1" strike="noStrike">
              <a:solidFill>
                <a:srgbClr val="e5e5ff"/>
              </a:solidFill>
              <a:latin typeface="Garamond"/>
            </a:endParaRPr>
          </a:p>
        </p:txBody>
      </p:sp>
      <p:sp>
        <p:nvSpPr>
          <p:cNvPr id="135"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lunteers are sometimes used in school situations to assist teachers in providing supervision, particularly on field trip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 general, volunteers are in the same position regarding negligence as teache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can be held responsible, but they benefit from the vicarious liability of the school board.  </a:t>
            </a: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Outside School Property </a:t>
            </a:r>
            <a:br>
              <a:rPr sz="3200"/>
            </a:br>
            <a:endParaRPr b="1" lang="en-US" sz="3200" spc="-1" strike="noStrike">
              <a:solidFill>
                <a:srgbClr val="e5e5ff"/>
              </a:solidFill>
              <a:latin typeface="Garamond"/>
            </a:endParaRPr>
          </a:p>
        </p:txBody>
      </p:sp>
      <p:sp>
        <p:nvSpPr>
          <p:cNvPr id="137" name="PlaceHolder 2"/>
          <p:cNvSpPr>
            <a:spLocks noGrp="1"/>
          </p:cNvSpPr>
          <p:nvPr>
            <p:ph/>
          </p:nvPr>
        </p:nvSpPr>
        <p:spPr>
          <a:xfrm>
            <a:off x="457200" y="990360"/>
            <a:ext cx="8229600" cy="5135400"/>
          </a:xfrm>
          <a:prstGeom prst="rect">
            <a:avLst/>
          </a:prstGeom>
          <a:noFill/>
          <a:ln w="0">
            <a:noFill/>
          </a:ln>
        </p:spPr>
        <p:txBody>
          <a:bodyPr anchor="t">
            <a:normAutofit fontScale="91000"/>
          </a:bodyPr>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boards and teachers are not generally held responsible for accidents occurring off the school grounds except during authorized school activities such as field trips and extracurricular activities during which teachers continue to be responsible for supervising pupils.  </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oard . . . has no control over property that it does not own or occupy, and therefore cannot be expected to keep it safe.  </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are not expected to supervise children who are both outside the schoolyard and not involved in school activities</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12120" indent="-31212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rts have found a duty of care that can be discharged by instructing children in traffic safety as part of the school program.  </a:t>
            </a:r>
            <a:endParaRPr b="0" lang="en-US" sz="24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egligence</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tort is a private wrong . . . that causes damage and for which courts will award compensation.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person who commits a tort is known as a tortfeasor,</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arty whose person, property, or reputation is damaged is called a victim.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rts may be intentional, (E.g. assault, false imprisonment, infliction of mental suffering, libel, and slander) or unintentional as in the case of negligence and strict liability.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rts and contracts together form most of . . . private law.  </a:t>
            </a:r>
            <a:endParaRPr b="0" lang="en-US" sz="24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Outside School Hour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9" name="PlaceHolder 2"/>
          <p:cNvSpPr>
            <a:spLocks noGrp="1"/>
          </p:cNvSpPr>
          <p:nvPr>
            <p:ph/>
          </p:nvPr>
        </p:nvSpPr>
        <p:spPr>
          <a:xfrm>
            <a:off x="457200" y="990360"/>
            <a:ext cx="8229600" cy="5135400"/>
          </a:xfrm>
          <a:prstGeom prst="rect">
            <a:avLst/>
          </a:prstGeom>
          <a:noFill/>
          <a:ln w="0">
            <a:noFill/>
          </a:ln>
        </p:spPr>
        <p:txBody>
          <a:bodyPr anchor="t">
            <a:normAutofit fontScale="92000"/>
          </a:bodyPr>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early supervision must be provided when the school is in session and during morning and afternoon recesses when held.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must supervise during the lunch break if pupils are permitted to remain at school,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upervision should also be provided for a period of time before school begins in the morning and perhaps after it ends in the afternoon.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hool authorities must determine the hours during which supervision will be provided and inform parents of these in writing.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ents should be advised not to send their children to school before supervision is available.  </a:t>
            </a:r>
            <a:endParaRPr b="0" lang="en-US" sz="2800" spc="-1" strike="noStrike">
              <a:solidFill>
                <a:srgbClr val="ffffff"/>
              </a:solidFill>
              <a:latin typeface="Garamond"/>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Gymnastics </a:t>
            </a:r>
            <a:br>
              <a:rPr sz="2800"/>
            </a:br>
            <a:endParaRPr b="1" lang="en-US" sz="2800" spc="-1" strike="noStrike">
              <a:solidFill>
                <a:srgbClr val="e5e5ff"/>
              </a:solidFill>
              <a:latin typeface="Garamond"/>
            </a:endParaRPr>
          </a:p>
        </p:txBody>
      </p:sp>
      <p:sp>
        <p:nvSpPr>
          <p:cNvPr id="141" name="PlaceHolder 2"/>
          <p:cNvSpPr>
            <a:spLocks noGrp="1"/>
          </p:cNvSpPr>
          <p:nvPr>
            <p:ph/>
          </p:nvPr>
        </p:nvSpPr>
        <p:spPr>
          <a:xfrm>
            <a:off x="533520" y="990720"/>
            <a:ext cx="8229600" cy="4983120"/>
          </a:xfrm>
          <a:prstGeom prst="rect">
            <a:avLst/>
          </a:prstGeom>
          <a:noFill/>
          <a:ln w="0">
            <a:noFill/>
          </a:ln>
        </p:spPr>
        <p:txBody>
          <a:bodyPr anchor="t">
            <a:normAutofit fontScale="91000"/>
          </a:bodyPr>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voiding accidents and consequent liability, gymnastics presents very difficult problems for teachers and school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ses are common, injuries are serious, and awards are often in the millions of dollars.  Gymnastics accidents can result in partial or complete paralysis of a student</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tandard of care required of gymnastics instructors goes well beyond that of the careful and prudent parent.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use of spotters—the teacher and other students who closely monitor an exercise and apply force to the gymnast to prevent a bad landing or other accident—is crucially important in doing gymnastics safely. </a:t>
            </a:r>
            <a:endParaRPr b="0" lang="en-US" sz="28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ree c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ree cases clarify the dangers and the standard of care required.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McKay . . .” While practising . . on the parallel bars, fell between the bars, landed on his head, and sustained injuries that resulted in permanent paralysis from the neck down. </a:t>
            </a:r>
            <a:endParaRPr b="0" lang="en-US" sz="32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2</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Myers . . .” teacher [was] in the gymnasium with 40 students, (2 classes combined because of the absence of another teacher)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laintiff attempted a straddle dismount,. . . and fell onto the slab mats below the rings, injuring himself.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trial, the teacher was found to be 80 percent negligent and the plaintiff contributorily negligent by 20 percent.</a:t>
            </a:r>
            <a:endParaRPr b="0" lang="en-US" sz="3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se #3</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Jones . . .” case - 15-year-old plaintiff was attempting a roll-over on a trampoline when he became untucked and fell to the mat, injuring his neck.  </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xercise had been explained and demonstrated by a student teacher and was being spotted by the student teacher and the regular classroom teacher.  </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laintiff had had some previous experience on the trampoline.  </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judge found that the activity was not inherently risky, and that the supervision was adequate. </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teachers were not found negligent.  </a:t>
            </a:r>
            <a:endParaRPr b="0" lang="en-US" sz="28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Conclusions </a:t>
            </a:r>
            <a:br>
              <a:rPr sz="2800"/>
            </a:br>
            <a:endParaRPr b="1" lang="en-US" sz="2800" spc="-1" strike="noStrike">
              <a:solidFill>
                <a:srgbClr val="e5e5ff"/>
              </a:solidFill>
              <a:latin typeface="Garamond"/>
            </a:endParaRPr>
          </a:p>
        </p:txBody>
      </p:sp>
      <p:sp>
        <p:nvSpPr>
          <p:cNvPr id="149" name="PlaceHolder 2"/>
          <p:cNvSpPr>
            <a:spLocks noGrp="1"/>
          </p:cNvSpPr>
          <p:nvPr>
            <p:ph/>
          </p:nvPr>
        </p:nvSpPr>
        <p:spPr>
          <a:xfrm>
            <a:off x="457200" y="990360"/>
            <a:ext cx="8229600" cy="5562360"/>
          </a:xfrm>
          <a:prstGeom prst="rect">
            <a:avLst/>
          </a:prstGeom>
          <a:noFill/>
          <a:ln w="0">
            <a:noFill/>
          </a:ln>
        </p:spPr>
        <p:txBody>
          <a:bodyPr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 boards and teachers owe a strong duty of care to pupils under their care.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hool premises must be kept as safe as reasonable care and skill can make them, and teachers must supervise pupils in the manner of a careful and prudent parent.  </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the failure to conform to this standard results in injury to a student, the board and teacher can be held liable for the tort of negligence.  They may be required to financially compensate the victim for his or her damages.  </a:t>
            </a:r>
            <a:endParaRPr b="0" lang="en-US" sz="32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533520"/>
            <a:ext cx="8229600" cy="594360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der the principle of vicarious liability, teachers who are guilty of negligence while acting within the scope of their employment will have their share of the award for damages paid by the board or its insurance company.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s are normally safe places but certain locations and activities increase risk.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onstruction activity on the site of an operating school increases the risk and may result in younger children being lured into the construction zone.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Within the school itself, shops and laboratories are more dangerous than classrooms.  Physical education activities, particularly gymnastics, involve substantially increased risk.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533520"/>
            <a:ext cx="8229600" cy="5943600"/>
          </a:xfrm>
          <a:prstGeom prst="rect">
            <a:avLst/>
          </a:prstGeom>
          <a:noFill/>
          <a:ln w="0">
            <a:noFill/>
          </a:ln>
        </p:spPr>
        <p:txBody>
          <a:bodyPr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gnoring student reports of injuries could make a court award against a teacher  likely.  </a:t>
            </a:r>
            <a:endParaRPr b="0" lang="en-US" sz="2800" spc="-1" strike="noStrike">
              <a:solidFill>
                <a:srgbClr val="ffffff"/>
              </a:solidFill>
              <a:latin typeface="Garamond"/>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ations and defences . . .  Several provinces have statutes that prevent suits against teachers or impose very strict time-limits for the suits to be filed.  Other provinces (NB) require that the school board be allowed to investigate the alleged offence first.  </a:t>
            </a:r>
            <a:endParaRPr b="0" lang="en-US" sz="2800" spc="-1" strike="noStrike">
              <a:solidFill>
                <a:srgbClr val="ffffff"/>
              </a:solidFill>
              <a:latin typeface="Garamond"/>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urt, teachers who have followed common professional practice will normally not be held liable for negligence.  </a:t>
            </a:r>
            <a:endParaRPr b="0" lang="en-US" sz="2800" spc="-1" strike="noStrike">
              <a:solidFill>
                <a:srgbClr val="ffffff"/>
              </a:solidFill>
              <a:latin typeface="Garamond"/>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Definition of Negligence</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06" name="PlaceHolder 2"/>
          <p:cNvSpPr>
            <a:spLocks noGrp="1"/>
          </p:cNvSpPr>
          <p:nvPr>
            <p:ph/>
          </p:nvPr>
        </p:nvSpPr>
        <p:spPr>
          <a:xfrm>
            <a:off x="457200" y="990360"/>
            <a:ext cx="8229600" cy="556236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gligence is the failure to do something that a reasonable and prudent person would do or the commission of an act that such a person would not commi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re are four elements of negligence, all of which must be present for there to be negligence.  These are </a:t>
            </a:r>
            <a:endParaRPr b="0" lang="en-US" sz="32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gal duty of care, </a:t>
            </a:r>
            <a:endParaRPr b="0" lang="en-US" sz="28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each of the duty of care, </a:t>
            </a:r>
            <a:endParaRPr b="0" lang="en-US" sz="28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tual damage, and </a:t>
            </a:r>
            <a:endParaRPr b="0" lang="en-US" sz="2800" spc="-1" strike="noStrike">
              <a:solidFill>
                <a:srgbClr val="ffffff"/>
              </a:solidFill>
              <a:latin typeface="Garamond"/>
            </a:endParaRPr>
          </a:p>
          <a:p>
            <a:pPr lvl="1" marL="735480" indent="-282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usal proximity.  </a:t>
            </a:r>
            <a:endParaRPr b="0" lang="en-US" sz="2800" spc="-1" strike="noStrike">
              <a:solidFill>
                <a:srgbClr val="ffffff"/>
              </a:solidFill>
              <a:latin typeface="Garamond"/>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Four Elements of Negligence</a:t>
            </a:r>
            <a:endParaRPr b="1" lang="en-US" sz="3200" spc="-1" strike="noStrike">
              <a:solidFill>
                <a:srgbClr val="e5e5ff"/>
              </a:solidFill>
              <a:latin typeface="Garamond"/>
            </a:endParaRPr>
          </a:p>
        </p:txBody>
      </p:sp>
      <p:sp>
        <p:nvSpPr>
          <p:cNvPr id="108" name="PlaceHolder 2"/>
          <p:cNvSpPr>
            <a:spLocks noGrp="1"/>
          </p:cNvSpPr>
          <p:nvPr>
            <p:ph/>
          </p:nvPr>
        </p:nvSpPr>
        <p:spPr>
          <a:xfrm>
            <a:off x="457200" y="1066320"/>
            <a:ext cx="8229600" cy="5334120"/>
          </a:xfrm>
          <a:prstGeom prst="rect">
            <a:avLst/>
          </a:prstGeom>
          <a:noFill/>
          <a:ln w="0">
            <a:noFill/>
          </a:ln>
        </p:spPr>
        <p:txBody>
          <a:bodyPr anchor="t">
            <a:normAutofit fontScale="94000"/>
          </a:bodyPr>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egal Duty of Care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 be negligent the defendant must have had a duty of care in law, . . . to the plaintiff.  . . .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boards and teachers have a duty of care to pupils while they are involved in curricular or extracurricular activities (on or off the school premises)</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duty of care may also exist outside of school hours (on the school grounds and within board-operated pupil transportation).  </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reach of the Duty of Care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efendant must have breached that duty by a positive act or by an omission.  . . .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uty of care involves taking precautions to guard against foreseeable risks, but not all risks are foreseeable, even by an alert and competent person.  </a:t>
            </a:r>
            <a:endParaRPr b="0" lang="en-US" sz="2400" spc="-1" strike="noStrike">
              <a:solidFill>
                <a:srgbClr val="ffffff"/>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914400" y="456840"/>
            <a:ext cx="7772400" cy="6172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ctual Damage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plaintiff must have suffered actual damage or injury.  (meaning personal injury of a pupi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ven serious breaches of a duty of care are not negligent if no one suffers damage as a result.  . .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mpensation paid to a victim of negligence depends on the extent of the damage; hence, no damage means no compensation and no case for the court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ausal Proximity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amage suffered by the plaintiff must be the result of the defendant's negligent action or inaction . . .  This is called causal proximity, proximate cause, or legal cause.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defendant's behaviour need not be the only cause of the damage.  A “but-for” test is frequently applied.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event is said to be the cause of another when the first event is necessary for the second, whether or not there are intervening events.. . </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urts are reluctant to find negligence if the damage is very remote from the breach of the duty of care.  </a:t>
            </a:r>
            <a:endParaRPr b="0" lang="en-US" sz="20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ources of Liability in Schools </a:t>
            </a:r>
            <a:br>
              <a:rPr sz="3200"/>
            </a:br>
            <a:endParaRPr b="1" lang="en-US" sz="3200" spc="-1" strike="noStrike">
              <a:solidFill>
                <a:srgbClr val="e5e5ff"/>
              </a:solidFill>
              <a:latin typeface="Garamond"/>
            </a:endParaRPr>
          </a:p>
        </p:txBody>
      </p:sp>
      <p:sp>
        <p:nvSpPr>
          <p:cNvPr id="111" name="PlaceHolder 2"/>
          <p:cNvSpPr>
            <a:spLocks noGrp="1"/>
          </p:cNvSpPr>
          <p:nvPr>
            <p:ph/>
          </p:nvPr>
        </p:nvSpPr>
        <p:spPr>
          <a:xfrm>
            <a:off x="457200" y="837720"/>
            <a:ext cx="8229600" cy="528804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gligence in schools generally involves a breach of the duty of care that the school board and its employees owe to their pupils </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areas of responsibility to their pupils where breaches can constitute negligence are </a:t>
            </a:r>
            <a:endParaRPr b="0" lang="en-US" sz="32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bligation to keep their premises and equipment safe and </a:t>
            </a:r>
            <a:endParaRPr b="0" lang="en-US" sz="28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provide reasonable supervision of pupils.  </a:t>
            </a:r>
            <a:endParaRPr b="0" lang="en-US" sz="2800" spc="-1" strike="noStrike">
              <a:solidFill>
                <a:srgbClr val="ffffff"/>
              </a:solidFill>
              <a:latin typeface="Garamond"/>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Occupiers' Liability</a:t>
            </a:r>
            <a:endParaRPr b="1" lang="en-US" sz="2800" spc="-1" strike="noStrike">
              <a:solidFill>
                <a:srgbClr val="e5e5ff"/>
              </a:solidFill>
              <a:latin typeface="Garamond"/>
            </a:endParaRPr>
          </a:p>
        </p:txBody>
      </p:sp>
      <p:sp>
        <p:nvSpPr>
          <p:cNvPr id="113"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chool board has an obligation as the occupier of the school facility, to eliminate, as much as possible, risks to persons who enter either the school or the school grounds.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ee categories of persons </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respassers, licensees, invitees, and compulsees (possibly the 4</a:t>
            </a:r>
            <a:r>
              <a:rPr b="0" lang="en-US" sz="2000" spc="-1" strike="noStrike" baseline="30000">
                <a:solidFill>
                  <a:srgbClr val="ffffff"/>
                </a:solidFill>
                <a:latin typeface="Garamond"/>
              </a:rPr>
              <a:t>TH</a:t>
            </a:r>
            <a:r>
              <a:rPr b="0" lang="en-US" sz="2000" spc="-1" strike="noStrike">
                <a:solidFill>
                  <a:srgbClr val="ffffff"/>
                </a:solidFill>
                <a:latin typeface="Garamond"/>
              </a:rPr>
              <a:t>)—who may be found on school premises and for whom the standard of care is different.  </a:t>
            </a: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espasser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ard has no obligation to make the school safe for someone who breaks in to commit theft or vandalism (is a trespasser even if also a student)</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raps cannot be set for trespassers, and trespassers must be warned about any unusual danger if their presence on the premises is known.  </a:t>
            </a:r>
            <a:endParaRPr b="0" lang="en-US" sz="2400" spc="-1" strike="noStrike">
              <a:solidFill>
                <a:srgbClr val="ffffff"/>
              </a:solidFill>
              <a:latin typeface="Garamon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Occupiers' Liability</a:t>
            </a:r>
            <a:endParaRPr b="1" lang="en-US" sz="3200" spc="-1" strike="noStrike">
              <a:solidFill>
                <a:srgbClr val="e5e5ff"/>
              </a:solidFill>
              <a:latin typeface="Garamond"/>
            </a:endParaRPr>
          </a:p>
        </p:txBody>
      </p:sp>
      <p:sp>
        <p:nvSpPr>
          <p:cNvPr id="115" name="PlaceHolder 2"/>
          <p:cNvSpPr>
            <a:spLocks noGrp="1"/>
          </p:cNvSpPr>
          <p:nvPr>
            <p:ph/>
          </p:nvPr>
        </p:nvSpPr>
        <p:spPr>
          <a:xfrm>
            <a:off x="533520" y="1143000"/>
            <a:ext cx="8229600" cy="54100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censee</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licensee is a guest of the occupier for social reasons.  </a:t>
            </a:r>
            <a:endParaRPr b="0" lang="en-US" sz="28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andard of care required is higher than for the trespasser.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child trespasser may, depending on his or her age, be considered a licensee if the premises contain something attractive, called an “allurement” or an “attractive nuisance”, that induces the child to enter.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on open school grounds for recreation outside of school hours are generally considered licensees.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icensee must be protected from unusual dangers of which the occupier is aware,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g. known defective playground equipment should be repaired or removed from the playground.  </a:t>
            </a:r>
            <a:endParaRPr b="0" lang="en-US" sz="24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Occupiers' Liability</a:t>
            </a:r>
            <a:endParaRPr b="1" lang="en-US" sz="3200" spc="-1" strike="noStrike">
              <a:solidFill>
                <a:srgbClr val="e5e5ff"/>
              </a:solidFill>
              <a:latin typeface="Garamond"/>
            </a:endParaRPr>
          </a:p>
        </p:txBody>
      </p:sp>
      <p:sp>
        <p:nvSpPr>
          <p:cNvPr id="117" name="PlaceHolder 2"/>
          <p:cNvSpPr>
            <a:spLocks noGrp="1"/>
          </p:cNvSpPr>
          <p:nvPr>
            <p:ph/>
          </p:nvPr>
        </p:nvSpPr>
        <p:spPr>
          <a:xfrm>
            <a:off x="533520" y="1143000"/>
            <a:ext cx="8229600" cy="541008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vitee</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erson who has entered the premises for official or business purposes.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sitive obligation to protect the invitee from unusual dangers that the occupier is  or should be aware of.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ccupier must take reasonable measures to ensure that the premises are safe.  </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upils at school to receive an education are at least invitees.  </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04:40:06Z</dcterms:created>
  <dc:creator>B McNutt</dc:creator>
  <dc:description/>
  <dc:language>en-US</dc:language>
  <cp:lastModifiedBy>Owner</cp:lastModifiedBy>
  <dcterms:modified xsi:type="dcterms:W3CDTF">2011-03-27T19:55:45Z</dcterms:modified>
  <cp:revision>7</cp:revision>
  <dc:subject/>
  <dc:title>Chapter Nineteen  Negligence in Schools</dc:title>
</cp:coreProperties>
</file>